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B0D-72FF-4187-92B8-0883E31B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9F6-4E18-4D31-88C8-29ED45DF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8A3-10FE-48AB-8D49-69232445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000-162F-41CC-8774-FD67D8FA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504-5B5A-4C63-AB70-DDC68B83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275-8218-403F-8A6E-B55F1474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FBE-CC6F-4B11-BE09-B347FD24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070-A244-4F92-AD1F-307AAA3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57A-DDC7-46B4-8E6F-B4C71283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F8B-54DE-4DF2-83C6-CF20060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A82-DCF4-4FE8-91EB-6499A3D3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586-7016-4F3E-BC2F-BAF10021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8BDC-BE1E-49F9-BD19-090BC38957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esolutsioonimeetod ja Davis-Putnami (DPLL) meetod lausearvutu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.Zingel, T.Tam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ks efektiivsemaid meetodeid kehtestatavuse kontrolliks on resolutsioonimeetod. DPLL on selle täiendatud erivari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 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3072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, n :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aldab tühja klauslit, lõpeta vastusega “vastuolu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 Sn kõigi resolventide 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õpeta vastusega “kehtestatav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Vastasel korral omista n := n + 1 ning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ompaktsema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820800" y="1905120"/>
            <a:ext cx="6939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4167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1487520"/>
            <a:ext cx="43909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n võiks töö peatada: vastuolu on kä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85800" y="1604880"/>
            <a:ext cx="6372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09480" y="1738440"/>
            <a:ext cx="755964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super method for proving properties of constructed or ord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rom specific to more gene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imple mathematical induction on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tructural induction on lists, tree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ell-founded induction on ordered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ve that a statement involving a natural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lds for all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proof consists of 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s (base ca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howing that the statement hold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iven in the question. Usu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howing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tatement holds for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tatement also hold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 1 is substitut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\forall P[[P(0) \land  \forall k \in \mathbb{N} (P(k) \Rightarrow P(k+1))] \Rightarrow  \forall n \in \mathbb{N}  [ P(n) ]] "/>
          <p:cNvPicPr/>
          <p:nvPr/>
        </p:nvPicPr>
        <p:blipFill>
          <a:blip r:embed="rId1"/>
          <a:stretch/>
        </p:blipFill>
        <p:spPr>
          <a:xfrm>
            <a:off x="792000" y="1371600"/>
            <a:ext cx="6937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the idea is that one wishes to prove some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y instance of some sort of recursively defined structure such as lists or t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ell-founded partial or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fined on the structures ("sublist" for lists and "subtree" for tre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ructural induction pro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roof that the proposition holds for all the minimal structures, and that if it holds for the immediate substructures of a certain struc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it must hol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. (Formally speaking, this then satisfies the premises of an axiom of well-founded induction, which asserts that these two conditions are sufficient for the proposition to hold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engu k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ormaalkujude meeldetule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aas-resolutsioonimeetod lausearvut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duktsi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solutsioonimeetodi korrektsus ja täielik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solutsioonimeetodi elementaarsed strateegi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orni reeglid ja resolutsioonimeetodi keerukus erijuhtu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P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PLL tehnoloogi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if the structures are lists, one usually introduces the partial order '&lt;'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ever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ail of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is ordering, the empty list [] is the unique minimal el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uctural induction proof of some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n consists of two pa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of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[]) is tr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of that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true for some li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tail of li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must also b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founded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well-founded rela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some property of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e want to show tha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holds for all elem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suffices to show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l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rue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R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tr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\forall x \in X\,((\forall y\in X\,(y\,R\,x \to P(y))) \to P(x))\to\forall x\in X\,(P(x))."/>
          <p:cNvPicPr/>
          <p:nvPr/>
        </p:nvPicPr>
        <p:blipFill>
          <a:blip r:embed="rId1"/>
          <a:stretch/>
        </p:blipFill>
        <p:spPr>
          <a:xfrm>
            <a:off x="762120" y="1447920"/>
            <a:ext cx="7648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Korrekts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lausel D on klauslite hulgast S resolutsioonimeetodiga tuletatav, siis kehtib valem S =&gt;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910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Täielikk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muutujateta klauslite hulgal S ei ole ühtegi mudelit, siis on tühi klausel hulgast S resolutsioonimeetodiga tuletata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utame Boyeri tõestust aastast 71, mis kasutab induktsiooni mõõdul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16040" y="3886200"/>
            <a:ext cx="8321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baasju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853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samm: alg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2012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459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samm: jä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21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lamisstrateegia (subsumption)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täiendus, kus eemaldatakse kõik sellised disjunktid D, mille jaoks on disjunktide hulgas olemas disjunkt E mis on D alam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 B  neelab C v A v D v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lab A v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lamisstrateegia (subsumption)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äilitab resolutsioonimeetodi täielikk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09480" y="2282760"/>
            <a:ext cx="79153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ate eemaldamin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täiendus, kus eemaldatakse kõik sellised disjunktid D, mis on tautoloog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 v A v B  v C    on tautoloogi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B                  ei ole tautoloogi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od töötab valemitega, mis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ktiivsel normaalkuj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ausemuutuja või selle eitu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literaalide disjunktsio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klauslite konjun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ate eemaldamise täielikkuse tõest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isab tähelepanekust, et 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-L v L v F         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 v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v F v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reegli eeldus L v D neelab reegli järeld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claus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isjunkt, kus ei ole rohkem, kui üks positiivne litera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C         on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               on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C v D   ei ole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 B                   ei ole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resolu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strateegia, kus üks resolutsioonireegli argumentidest peab olema positiivne ühikdisjunkt (aat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: ühikresolutsioon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ieli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rni disjunktidest koosneva hulga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: induktsiooniga analoogiliselt resolutsioonimeetodi täielikkuse tõestus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resolutsiooni keerukus Horni juh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ühikresolutsioonreegli rakendamine Horni juhul tekitab disjunkti, mis on lühem ja neelab eelduseks oleva disjunk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       -A v –B  v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 v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23720" y="1681200"/>
            <a:ext cx="82965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99960" y="1819440"/>
            <a:ext cx="834408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B suurus on N, siis saab sellele rakendada maksimaalselt N ühikresolutsiooni sam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rukus on linea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LL idee on kasutada ära ühikresolutsiooni kui lineaarse keerukusega lahendajat ja lammutada mitte-horni-kujul reeglid rekursiivselt horni kujul tükkide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DPLL (wi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s, Martin; Putnam, Hilary (19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s, Martin; Logemann, George, and Loveland, Donald (19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P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clauses Φ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A Truth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DPLL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s a consistent set of literals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ains an empty clause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or ever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unit clause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unit-propagat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or ever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literal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hat occurs pure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pure-literal-assig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choose-litera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PL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)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PL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(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äehelpanek: konjuktiivse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alkuju võib vaadelda ka lõpliku hulga atomaarjäreldusten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njunktiivset normaalku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b vaadelda hulg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), (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, (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, (r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) Triviaalne juhtum: ei ole vaja split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448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) Mittetriviaalne juhtum: on vaja split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8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a algoritm ise on väga lihtne, siis keskendub kiiremate algoritmide otsimine sellele, kuidas valida paremini hargnemissümbol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htne heuristi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 lausesümbol p, mis maksimeerib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kus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lite arv, kus p esineb positiivselt, ja n_ on klauslite arv, kus n esineb negatiiv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da esmalt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ning esmalt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n_ 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 põhiideeks on tuletada etteantud klauslite hulgast, mis esitavad reegleid ja fakte, uusi klausle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ge lihtsam versioon kasutab kaht tuletusreegl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us ponensi üldist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peltmuutujate eemaldam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sikaline modus pon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-&gt;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, kuid A-&gt;B esitatud disjunkti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-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v 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odus ponensi üldistus suvaliste disjuntide pe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ulise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ame muutuja 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 on esimeses valemis positiivne ja teises negatiiv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õikame nii 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ra ja kleebime ülejäänud kok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peltliteraalid võib kõrvald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1" lang="et-EE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faktoriseerimisreegli rakendamisel klauslile C saame uue klausli C’, siis võime kustutada eelduse 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iks: iga tõestuse, mis kasutab C saab ümber kirjutada tõestuseks, mis kasutab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’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-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üüpiliselt rakendatakse meetodit klauslite hulga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s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äitamiseks. Kui tahame tõestada valemi F tuletatavust, on see samaväärne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vastuolulisuse tõestamis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21:20Z</dcterms:created>
  <dc:creator>Tiina Zingel</dc:creator>
  <dc:description/>
  <dc:language>en-US</dc:language>
  <cp:lastModifiedBy>Tanel</cp:lastModifiedBy>
  <dcterms:modified xsi:type="dcterms:W3CDTF">2013-02-04T13:43:13Z</dcterms:modified>
  <cp:revision>28</cp:revision>
  <dc:subject/>
  <dc:title>Resolutsioonimeetod lausearvutuses.</dc:title>
</cp:coreProperties>
</file>